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01CD-5FE7-4EC9-9242-5845BBFE09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76DB-84D4-4F26-8212-CD78958AD4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F9A-5379-4A1C-8C41-B2553636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AB1-F855-42E1-A1D0-CA316B50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B43-B13B-4AD0-A1FE-E8670975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A51-4470-4FE8-A249-D82E74F9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BE3C-F58E-4D97-9BBC-D038EBBF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D462-1FB9-4242-990F-8D2FC139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339B-DDDE-4BDD-9041-39BE061F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6FBB-9D34-4D50-9A26-824584DA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8EFB-1AAD-4ED9-B32A-E746E47B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AD2C-DAEC-4378-A46A-5DC2CEA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9E60-B8AD-4055-B574-B7FA0438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C25-0045-4970-A9DB-205CB3BA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18BF-8C59-4C69-9AEA-24BEFEF3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959-8565-42F5-883C-D321340E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7F94-A32B-4387-B851-50BB713B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E515-4921-4D1D-95D4-0DAA72B3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955-6D1E-411B-8317-DFE07AB0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E721-D258-492C-AB35-68FF6E50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9C6B-F600-486D-A6C9-64465F84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86BD-C1F2-4472-AE38-7075B545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9406-134C-4EB5-960A-E5467BF4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76F9-7587-41AC-8D31-9A9E6569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B9A-7ADC-48D1-9FFB-D3DA8202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E0DD-A0B8-40D8-B17D-61133572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A0D04-204B-4CEC-AD87-326F237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7FF6-EFC2-47E4-8B1B-4F7924A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D3B3-34EA-4048-9C1C-325E9DA2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BAD2-2A61-4D0A-A1D5-47915853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A186-6270-4AE6-8E85-E64DA2DC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DE9D-2998-4318-8216-9D989CB5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8B65-7986-4790-91EF-7A0387F7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86F2-CE81-4115-8036-D6E0A2B2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57DD-613A-4D99-9A5D-641B6B19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DB0-DA18-4FF0-9C96-C69FD77E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98B34-FE06-4A7F-8B99-5CBF3C1B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CE64-875D-4B30-A645-453343CC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69F6-3CAF-4D36-8F23-4A349135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B7FE-1F8D-4693-8E13-06091746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A709E-1E59-429E-B03C-619F921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C8102-226E-4CB4-9B40-DF5F3973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DAB3E-A976-4499-9E8E-444D2094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9A40-80E7-4F54-B567-7C80EAEF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A27C-785A-4CD6-9899-DEF97199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C05D-2D6F-49C8-BC99-FA90CDD0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450-F680-4287-BC51-41CDA191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7057F-FEDB-4F13-9210-267A4D8D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AD1A-6C11-4EEA-99EC-05CF3538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38B58-D57C-4164-8090-F51DA8DC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26312-F031-4332-A09F-2E5BA024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3BE1-9322-4AB3-ADA3-28CA74CF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A292F-15FE-46CC-8FA5-206EBEA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0D05E-6202-44AB-BD04-FEC4F286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094BE-D3CB-4F63-AB54-E1C4E927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5B88-608B-4C9A-928F-5932ACA5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B2538-80B9-4B4E-8BEB-2E11CBD7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3B8-9E6C-433B-9535-D74F2BC0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3E50E-9B5A-401D-AC82-8C8B7272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90E53-359E-429F-8A79-79389D80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7B619-99ED-47AF-93C4-82F4F7A3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C7256-A50D-4DC1-B8B6-2928F79A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DEBF1-8E3D-4333-A0CB-8B7E4476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AF16-AC8C-41D1-B13B-E937644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F5CAB-1E6F-43D5-BE41-D3B9A8D7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439A4-802D-40EC-BA9E-D413A74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D7B81-6801-4A5F-A96A-3B8F4600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BCD0-4310-4E16-BA26-801E8187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06C-BF4B-44B7-9CAB-DA45BA64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538C7-5F03-4815-B018-3A7536EB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82854-6295-425D-B694-80F74C54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62683-E27D-4697-93C5-4C2EAC2F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E4E03-5C81-4EEE-B1DA-4018F244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DF08-9CEB-41CB-BB65-6718B2DA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0747-B9C3-42AC-AC3F-0ADA4F36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F0C9F-9AA0-4BBC-B85C-3CA30682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514C7-D09E-4D1C-8EC8-66049DC8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1D518-5410-4CAF-A370-4DE67BF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7665C-F3D8-47E3-BA47-888F7E4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806-66B4-4FDE-A52E-1D531F40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80A81-B969-4A1A-8F95-DF63EE1B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315EB-6584-4AEB-BCD9-00E8D7AA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048A4-873B-4141-AE71-7E7D7A61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2A691-335F-4AF5-AA7B-F179860D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A0597-1E85-4444-9BFE-FE52C4A3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A88-9F15-47D3-B16E-2BD59E14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81DD-CD35-486A-9B46-2B2CFE2E99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84F4-7ABE-41B4-B3C9-D7BB0AE130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8863-7313-4BE3-99F0-D34F570083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B298-D2AA-4240-949B-A02B909637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2412-95A0-4CB5-9330-C507F29FD1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5194-B0A6-4398-ADDB-857E256995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CE7-34E7-4488-B96E-84B88089FF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572314"/>
                </a:solidFill>
                <a:latin typeface="Corbel"/>
              </a:rPr>
              <a:t>ЗАСЕДАНИЕ КЛУБА </a:t>
            </a:r>
            <a:br>
              <a:rPr sz="6500"/>
            </a:br>
            <a:r>
              <a:rPr b="1" lang="ru-RU" sz="6500" spc="-1" strike="noStrike">
                <a:solidFill>
                  <a:srgbClr val="572314"/>
                </a:solidFill>
                <a:latin typeface="Corbel"/>
              </a:rPr>
              <a:t>«СВОЙСТВА ПОЛЕЗНЫХ ИСКОПАЕМЫХ»</a:t>
            </a:r>
            <a:endParaRPr b="0" lang="en-US" sz="65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rbel"/>
              </a:rPr>
              <a:t>ИЗУЧИТЬ СВОЙСТВА ПОЛЕЗНЫХ ИСКОПАЕМЫХ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ТЬ ………. ПОЛЕЗНЫХ ИСКОПАЕМЫ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ИТЬ РЕЗУЛЬТАТЫ В ..........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ЗНАТЬ ОБ..................ПОЛЕЗНЫХ ИСКОПАЕМЫ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……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СВОЙСТВА, ТАБЛИЦЕ, ИСПОЛЬЗОВАНИИ, СООБЩЕНИЕ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ТЬ СВОЙСТВА ПОЛЕЗНЫХ ИСКОПАЕМЫ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ИТЬ РЕЗУЛЬТАТЫ В ТАБЛИЦ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ЗНАТЬ ОБ ИСПОЛЬЗОВАНИИ ПОЛЕЗНЫХ ИСКОПАЕМЫ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СООБЩ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9:16:00Z</dcterms:created>
  <dc:creator>АДМИН</dc:creator>
  <dc:description/>
  <dc:language>en-US</dc:language>
  <cp:lastModifiedBy>АДМИН</cp:lastModifiedBy>
  <dcterms:modified xsi:type="dcterms:W3CDTF">2016-02-09T19:30:14Z</dcterms:modified>
  <cp:revision>2</cp:revision>
  <dc:subject/>
  <dc:title>ЗАСЕДАНИЕ КЛУБА  «СВОЙСТВА ПОЛЕЗНЫХ ИСКОПАЕМЫХ»</dc:title>
</cp:coreProperties>
</file>